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35F3-547F-4CB7-BC84-B7AA6D4EF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F686-1307-4E15-9BF2-5668BFD6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2EEC-0369-4DAA-BC08-F640AD13C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F5D3-00F6-490F-9BEC-FD9F54FF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C733-3E1F-45DD-BC45-F2CE9B7F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192C-BC48-4B25-A543-29E7A433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78B8-00F9-4369-A14F-0888AA73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1C5F-3A32-4C6C-A7FD-455CD6C0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C769-9960-496D-A9FA-C566230B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ACF4-8FA4-47CD-83F2-65DDCC2A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4CC6-62D1-4E48-A2E3-AD4044CB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B2A5-D3CE-4784-A14F-7A53F8B2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CE63-4BCB-4FB6-BBFB-748B5218C84A}" type="datetime">
              <a:rPr b="0" lang="es-ES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7325-661E-4E84-900E-18F95C40721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www.pammarketingnut.com/35-social-media-truths-subscription/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2CCF-BC7A-418E-A608-F99F45774D0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2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C:\Users\qazwsxedcrfv\Desktop\BACK PRESENTACION CONGRESO AMBA 2012\IMAGENES\redes.JPG"/>
          <p:cNvPicPr/>
          <p:nvPr/>
        </p:nvPicPr>
        <p:blipFill>
          <a:blip r:embed="rId3"/>
          <a:stretch/>
        </p:blipFill>
        <p:spPr>
          <a:xfrm>
            <a:off x="228600" y="907920"/>
            <a:ext cx="88120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BEBF-B02B-4EC2-8027-AFCAAF1FE07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4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ítulo 1"/>
          <p:cNvSpPr/>
          <p:nvPr/>
        </p:nvSpPr>
        <p:spPr>
          <a:xfrm>
            <a:off x="1143000" y="511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Eras Bold ITC"/>
              </a:rPr>
              <a:t>ESCENARIO TECNOLÓGIC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73E3-50F7-48A4-A6D2-7064BA4BE08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4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C:\Users\qazwsxedcrfv\Desktop\BACK PRESENTACION CONGRESO AMBA 2012\IMAGENES\tecnologia.JPG"/>
          <p:cNvPicPr/>
          <p:nvPr/>
        </p:nvPicPr>
        <p:blipFill>
          <a:blip r:embed="rId3"/>
          <a:stretch/>
        </p:blipFill>
        <p:spPr>
          <a:xfrm>
            <a:off x="368280" y="380880"/>
            <a:ext cx="4343400" cy="5391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C:\Users\qazwsxedcrfv\Desktop\iphone5.jpeg"/>
          <p:cNvPicPr/>
          <p:nvPr/>
        </p:nvPicPr>
        <p:blipFill>
          <a:blip r:embed="rId4"/>
          <a:stretch/>
        </p:blipFill>
        <p:spPr>
          <a:xfrm>
            <a:off x="5016600" y="2973240"/>
            <a:ext cx="382248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7BEE-F1F4-44C5-8C2B-D85D2C5D77D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4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ítulo 1"/>
          <p:cNvSpPr/>
          <p:nvPr/>
        </p:nvSpPr>
        <p:spPr>
          <a:xfrm>
            <a:off x="1066680" y="511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Eras Bold ITC"/>
              </a:rPr>
              <a:t>ESCENARIO SOCIOCULTUR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0D79-296F-4F6B-BA09-5C4AB74A632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4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ítulo 1"/>
          <p:cNvSpPr/>
          <p:nvPr/>
        </p:nvSpPr>
        <p:spPr>
          <a:xfrm>
            <a:off x="1066680" y="358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Eras Bold ITC"/>
                <a:ea typeface="MS PGothic"/>
              </a:rPr>
              <a:t>CLUETRA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21C9-BD26-4578-B60B-957BFDCEC2E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4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C:\Users\qazwsxedcrfv\Desktop\cluetrain authors.jpg"/>
          <p:cNvPicPr/>
          <p:nvPr/>
        </p:nvPicPr>
        <p:blipFill>
          <a:blip r:embed="rId3"/>
          <a:stretch/>
        </p:blipFill>
        <p:spPr>
          <a:xfrm>
            <a:off x="1028880" y="498600"/>
            <a:ext cx="7086600" cy="52927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"/>
          <p:cNvSpPr/>
          <p:nvPr/>
        </p:nvSpPr>
        <p:spPr>
          <a:xfrm>
            <a:off x="809640" y="380880"/>
            <a:ext cx="7299360" cy="103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ce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Eras Bold ITC"/>
                <a:ea typeface="MS PGothic"/>
              </a:rPr>
              <a:t>THE CLUETRAIN MANIF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Eras Bold ITC"/>
                <a:ea typeface="MS PGothic"/>
              </a:rPr>
              <a:t>THE END OF BUSINESS AS USS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A2DA-55EE-4DF6-8C83-21CD16B5860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4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"/>
          <p:cNvSpPr/>
          <p:nvPr/>
        </p:nvSpPr>
        <p:spPr>
          <a:xfrm>
            <a:off x="380880" y="689400"/>
            <a:ext cx="8458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Eras Bold ITC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Eras Bold ITC"/>
              </a:rPr>
              <a:t>Una</a:t>
            </a:r>
            <a:r>
              <a:rPr b="0" lang="es-ES" sz="36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s-ES" sz="3600" spc="-1" strike="noStrike">
                <a:solidFill>
                  <a:srgbClr val="ff0000"/>
                </a:solidFill>
                <a:latin typeface="Eras Bold ITC"/>
              </a:rPr>
              <a:t>poderosa conversación global </a:t>
            </a:r>
            <a:r>
              <a:rPr b="0" lang="es-ES" sz="2800" spc="-1" strike="noStrike">
                <a:solidFill>
                  <a:srgbClr val="000000"/>
                </a:solidFill>
                <a:latin typeface="Eras Bold ITC"/>
              </a:rPr>
              <a:t>ha comenza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380880" y="465264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Eras Bold ITC"/>
              </a:rPr>
              <a:t>y lo están haciendo más rápido que la mayoría de las compañías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380880" y="1609200"/>
            <a:ext cx="845820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Eras Bold ITC"/>
              </a:rPr>
              <a:t>A través de Internet, </a:t>
            </a:r>
            <a:r>
              <a:rPr b="0" lang="es-ES" sz="3600" spc="-1" strike="noStrike">
                <a:solidFill>
                  <a:srgbClr val="ff0000"/>
                </a:solidFill>
                <a:latin typeface="Eras Bold ITC"/>
              </a:rPr>
              <a:t>la gente está descubriendo e inventando </a:t>
            </a:r>
            <a:r>
              <a:rPr b="0" lang="es-ES" sz="2800" spc="-1" strike="noStrike">
                <a:solidFill>
                  <a:srgbClr val="000000"/>
                </a:solidFill>
                <a:latin typeface="Eras Bold ITC"/>
              </a:rPr>
              <a:t>nuevas formas de</a:t>
            </a:r>
            <a:r>
              <a:rPr b="0" lang="es-ES" sz="36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s-ES" sz="3600" spc="-1" strike="noStrike">
                <a:solidFill>
                  <a:srgbClr val="ff0000"/>
                </a:solidFill>
                <a:latin typeface="Eras Bold ITC"/>
              </a:rPr>
              <a:t>compartir conocimiento </a:t>
            </a:r>
            <a:r>
              <a:rPr b="0" lang="es-ES" sz="2800" spc="-1" strike="noStrike">
                <a:solidFill>
                  <a:srgbClr val="000000"/>
                </a:solidFill>
                <a:latin typeface="Eras Bold ITC"/>
              </a:rPr>
              <a:t>relevante con velocidad asombro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380880" y="35856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Eras Bold ITC"/>
              </a:rPr>
              <a:t>Como resultado directo, </a:t>
            </a:r>
            <a:r>
              <a:rPr b="0" lang="es-ES" sz="3600" spc="-1" strike="noStrike">
                <a:solidFill>
                  <a:srgbClr val="ff0000"/>
                </a:solidFill>
                <a:latin typeface="Eras Bold ITC"/>
              </a:rPr>
              <a:t>los mercados se están volviendo más intelig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48EC-2F9C-4341-B633-778F53A6F5F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4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ítulo 1"/>
          <p:cNvSpPr/>
          <p:nvPr/>
        </p:nvSpPr>
        <p:spPr>
          <a:xfrm>
            <a:off x="228600" y="1700280"/>
            <a:ext cx="88074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Eras Bold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Eras Bold ITC"/>
                <a:ea typeface="MS PGothic"/>
              </a:rPr>
              <a:t>“</a:t>
            </a:r>
            <a:r>
              <a:rPr b="0" lang="es-ES" sz="5400" spc="-1" strike="noStrike">
                <a:solidFill>
                  <a:srgbClr val="000000"/>
                </a:solidFill>
                <a:latin typeface="Eras Bold ITC"/>
                <a:ea typeface="MS PGothic"/>
              </a:rPr>
              <a:t>LOS MERCADOS S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Eras Bold ITC"/>
                <a:ea typeface="MS PGothic"/>
              </a:rPr>
              <a:t>     </a:t>
            </a:r>
            <a:r>
              <a:rPr b="0" lang="es-ES" sz="5400" spc="-1" strike="noStrike">
                <a:solidFill>
                  <a:srgbClr val="000000"/>
                </a:solidFill>
                <a:latin typeface="Eras Bold ITC"/>
                <a:ea typeface="MS PGothic"/>
              </a:rPr>
              <a:t>CONVERSACIONES…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9F9C-6896-4D67-8E7B-64307154E2A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evolucion medios"/>
          <p:cNvPicPr/>
          <p:nvPr/>
        </p:nvPicPr>
        <p:blipFill>
          <a:blip r:embed="rId3"/>
          <a:stretch/>
        </p:blipFill>
        <p:spPr>
          <a:xfrm>
            <a:off x="52560" y="1219320"/>
            <a:ext cx="9038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A5EE-7FBE-4076-BD80-48BECDE3E5C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7 Rectángulo"/>
          <p:cNvSpPr/>
          <p:nvPr/>
        </p:nvSpPr>
        <p:spPr>
          <a:xfrm>
            <a:off x="3962520" y="838080"/>
            <a:ext cx="4876560" cy="47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Eras Bold ITC"/>
              </a:rPr>
              <a:t>12. No hay secret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Eras Bold ITC"/>
              </a:rPr>
              <a:t>El mercado conectado </a:t>
            </a:r>
            <a:r>
              <a:rPr b="0" lang="es-ES" sz="3600" spc="-1" strike="noStrike">
                <a:solidFill>
                  <a:srgbClr val="ff0000"/>
                </a:solidFill>
                <a:latin typeface="Eras Bold ITC"/>
              </a:rPr>
              <a:t>sabe más sobre los productos</a:t>
            </a:r>
            <a:r>
              <a:rPr b="0" lang="es-ES" sz="3600" spc="-1" strike="noStrike">
                <a:solidFill>
                  <a:srgbClr val="000000"/>
                </a:solidFill>
                <a:latin typeface="Eras Bold ITC"/>
              </a:rPr>
              <a:t>, </a:t>
            </a:r>
            <a:r>
              <a:rPr b="0" lang="es-ES" sz="2800" spc="-1" strike="noStrike">
                <a:solidFill>
                  <a:srgbClr val="000000"/>
                </a:solidFill>
                <a:latin typeface="Eras Bold ITC"/>
              </a:rPr>
              <a:t>que la empresa que los desarroll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Eras Bold ITC"/>
              </a:rPr>
              <a:t>Y si los nuevos productos </a:t>
            </a:r>
            <a:r>
              <a:rPr b="0" lang="es-ES" sz="3600" spc="-1" strike="noStrike">
                <a:solidFill>
                  <a:srgbClr val="ff0000"/>
                </a:solidFill>
                <a:latin typeface="Eras Bold ITC"/>
              </a:rPr>
              <a:t>son buenos o malos</a:t>
            </a:r>
            <a:r>
              <a:rPr b="0" lang="es-ES" sz="2800" spc="-1" strike="noStrike">
                <a:solidFill>
                  <a:srgbClr val="000000"/>
                </a:solidFill>
                <a:latin typeface="Eras Bold ITC"/>
              </a:rPr>
              <a:t>, ellos </a:t>
            </a:r>
            <a:r>
              <a:rPr b="0" lang="es-ES" sz="3600" spc="-1" strike="noStrike">
                <a:solidFill>
                  <a:srgbClr val="ff0000"/>
                </a:solidFill>
                <a:latin typeface="Eras Bold ITC"/>
              </a:rPr>
              <a:t>se lo dicen a todo el mundo</a:t>
            </a:r>
            <a:r>
              <a:rPr b="0" lang="es-ES" sz="3600" spc="-1" strike="noStrike">
                <a:solidFill>
                  <a:srgbClr val="000000"/>
                </a:solidFill>
                <a:latin typeface="Eras Bold ITC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C:\Users\qazwsxedcrfv\Desktop\keyboard.jpg"/>
          <p:cNvPicPr/>
          <p:nvPr/>
        </p:nvPicPr>
        <p:blipFill>
          <a:blip r:embed="rId3"/>
          <a:stretch/>
        </p:blipFill>
        <p:spPr>
          <a:xfrm>
            <a:off x="30240" y="152280"/>
            <a:ext cx="3703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5270-66CB-421F-8990-5081A1E0BAC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4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ítulo 1"/>
          <p:cNvSpPr/>
          <p:nvPr/>
        </p:nvSpPr>
        <p:spPr>
          <a:xfrm>
            <a:off x="5105520" y="914400"/>
            <a:ext cx="37335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ras Bold IT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Eras Bold ITC"/>
              </a:rPr>
              <a:t>SI LE HABLARAS A LA GENTE DE LA MISMA MANERA QUE LA PUBLICIDAD LE HABLA A LA GENT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Eras Bold ITC"/>
              </a:rPr>
              <a:t>TE DARIAN UNA TROMPAD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C:\Users\qazwsxedcrfv\Desktop\punch in the face.jpg"/>
          <p:cNvPicPr/>
          <p:nvPr/>
        </p:nvPicPr>
        <p:blipFill>
          <a:blip r:embed="rId3"/>
          <a:stretch/>
        </p:blipFill>
        <p:spPr>
          <a:xfrm>
            <a:off x="152280" y="1752480"/>
            <a:ext cx="4835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70F0-E6AF-450B-8951-6E8453395ED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n 2" descr="Captura de pantalla 2012-11-11 a la(s) 18.19.21.png"/>
          <p:cNvPicPr/>
          <p:nvPr/>
        </p:nvPicPr>
        <p:blipFill>
          <a:blip r:embed="rId3"/>
          <a:stretch/>
        </p:blipFill>
        <p:spPr>
          <a:xfrm>
            <a:off x="4267080" y="111240"/>
            <a:ext cx="480060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F8DF-4A3E-4885-BD59-3A76427CBBF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9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4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ítulo 1"/>
          <p:cNvSpPr/>
          <p:nvPr/>
        </p:nvSpPr>
        <p:spPr>
          <a:xfrm>
            <a:off x="106668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Eras Bold ITC"/>
              </a:rPr>
              <a:t>52. La </a:t>
            </a:r>
            <a:r>
              <a:rPr b="0" lang="es-ES" sz="3600" spc="-1" strike="noStrike">
                <a:solidFill>
                  <a:srgbClr val="ff0000"/>
                </a:solidFill>
                <a:latin typeface="Eras Bold ITC"/>
              </a:rPr>
              <a:t>paranoia mata la conversación</a:t>
            </a:r>
            <a:r>
              <a:rPr b="0" lang="es-ES" sz="3200" spc="-1" strike="noStrike">
                <a:solidFill>
                  <a:srgbClr val="000000"/>
                </a:solidFill>
                <a:latin typeface="Eras Bold ITC"/>
              </a:rPr>
              <a:t>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C:\Users\qazwsxedcrfv\Desktop\paranoia-792.jpg"/>
          <p:cNvPicPr/>
          <p:nvPr/>
        </p:nvPicPr>
        <p:blipFill>
          <a:blip r:embed="rId3"/>
          <a:stretch/>
        </p:blipFill>
        <p:spPr>
          <a:xfrm>
            <a:off x="-108000" y="1320840"/>
            <a:ext cx="5400720" cy="4546440"/>
          </a:xfrm>
          <a:prstGeom prst="rect">
            <a:avLst/>
          </a:prstGeom>
          <a:ln w="0">
            <a:noFill/>
          </a:ln>
        </p:spPr>
      </p:pic>
      <p:sp>
        <p:nvSpPr>
          <p:cNvPr id="154" name="Título 1"/>
          <p:cNvSpPr/>
          <p:nvPr/>
        </p:nvSpPr>
        <p:spPr>
          <a:xfrm>
            <a:off x="5181480" y="1676520"/>
            <a:ext cx="3657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Eras Bold ITC"/>
                <a:ea typeface="MS PGothic"/>
              </a:rPr>
              <a:t>Pero la falta de conversaciones abiertas </a:t>
            </a:r>
            <a:r>
              <a:rPr b="0" lang="es-ES" sz="3600" spc="-1" strike="noStrike">
                <a:solidFill>
                  <a:srgbClr val="ff0000"/>
                </a:solidFill>
                <a:latin typeface="Eras Bold ITC"/>
                <a:ea typeface="MS PGothic"/>
              </a:rPr>
              <a:t>mata a las compañías.</a:t>
            </a:r>
            <a:r>
              <a:rPr b="0" lang="es-ES" sz="3600" spc="-1" strike="noStrike">
                <a:solidFill>
                  <a:srgbClr val="000000"/>
                </a:solidFill>
                <a:latin typeface="Eras Bold ITC"/>
                <a:ea typeface="MS PGothic"/>
              </a:rPr>
              <a:t> 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85CE-5247-4631-9FC7-C6EA83B5708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14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ítulo 1"/>
          <p:cNvSpPr/>
          <p:nvPr/>
        </p:nvSpPr>
        <p:spPr>
          <a:xfrm>
            <a:off x="1219320" y="457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Eras Bold ITC"/>
              </a:rPr>
              <a:t>74. SOMOS INMUNES A LA PUBLICIDAD. OLVÍDALO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3"/>
          <a:stretch/>
        </p:blipFill>
        <p:spPr>
          <a:xfrm>
            <a:off x="2941560" y="1927080"/>
            <a:ext cx="605016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562C-446E-4D1F-82A9-F15DE27AEB8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9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4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ítulo 1"/>
          <p:cNvSpPr/>
          <p:nvPr/>
        </p:nvSpPr>
        <p:spPr>
          <a:xfrm>
            <a:off x="1066680" y="6858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Eras Bold ITC"/>
              </a:rPr>
              <a:t>GROUNDSWELL</a:t>
            </a: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9084-346E-4078-8D0F-4914605DE4E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4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ítulo 1"/>
          <p:cNvSpPr/>
          <p:nvPr/>
        </p:nvSpPr>
        <p:spPr>
          <a:xfrm>
            <a:off x="1066680" y="550800"/>
            <a:ext cx="7772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Eras Bold ITC"/>
              </a:rPr>
              <a:t>fenómeno social en que la </a:t>
            </a:r>
            <a:r>
              <a:rPr b="0" lang="es-ES" sz="3600" spc="-1" strike="noStrike">
                <a:solidFill>
                  <a:srgbClr val="ff0000"/>
                </a:solidFill>
                <a:latin typeface="Eras Bold ITC"/>
              </a:rPr>
              <a:t>gente utiliza las tecnologías </a:t>
            </a:r>
            <a:r>
              <a:rPr b="0" lang="es-ES" sz="2800" spc="-1" strike="noStrike">
                <a:solidFill>
                  <a:srgbClr val="000000"/>
                </a:solidFill>
                <a:latin typeface="Eras Bold ITC"/>
              </a:rPr>
              <a:t>para obtener lo que necesita pero </a:t>
            </a:r>
            <a:r>
              <a:rPr b="0" lang="es-ES" sz="3600" spc="-1" strike="noStrike">
                <a:solidFill>
                  <a:srgbClr val="ff0000"/>
                </a:solidFill>
                <a:latin typeface="Eras Bold ITC"/>
              </a:rPr>
              <a:t>no de las empresas</a:t>
            </a:r>
            <a:r>
              <a:rPr b="0" lang="es-ES" sz="3600" spc="-1" strike="noStrike">
                <a:solidFill>
                  <a:srgbClr val="000000"/>
                </a:solidFill>
                <a:latin typeface="Eras Bold ITC"/>
              </a:rPr>
              <a:t>, </a:t>
            </a:r>
            <a:r>
              <a:rPr b="0" lang="es-ES" sz="2800" spc="-1" strike="noStrike">
                <a:solidFill>
                  <a:srgbClr val="000000"/>
                </a:solidFill>
                <a:latin typeface="Eras Bold ITC"/>
              </a:rPr>
              <a:t>sino</a:t>
            </a:r>
            <a:r>
              <a:rPr b="0" lang="es-ES" sz="36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Eras Bold ITC"/>
              </a:rPr>
              <a:t>de otras personas. 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ítulo 1"/>
          <p:cNvSpPr/>
          <p:nvPr/>
        </p:nvSpPr>
        <p:spPr>
          <a:xfrm>
            <a:off x="1066680" y="3209760"/>
            <a:ext cx="7772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Eras Bold ITC"/>
                <a:ea typeface="MS PGothic"/>
              </a:rPr>
              <a:t>Las tecnologías que lo impuls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Eras Bold ITC"/>
                <a:ea typeface="MS PGothic"/>
              </a:rPr>
              <a:t>evolucionan a un ritmo cada vez más rápido pero </a:t>
            </a:r>
            <a:r>
              <a:rPr b="0" lang="es-ES" sz="3600" spc="-1" strike="noStrike">
                <a:solidFill>
                  <a:srgbClr val="ff0000"/>
                </a:solidFill>
                <a:latin typeface="Eras Bold ITC"/>
                <a:ea typeface="MS PGothic"/>
              </a:rPr>
              <a:t>el fenómen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Eras Bold ITC"/>
                <a:ea typeface="MS PGothic"/>
              </a:rPr>
              <a:t>en sí mismo, se nutre del eterno deseo de la gente de conectarse</a:t>
            </a:r>
            <a:r>
              <a:rPr b="0" lang="es-ES" sz="3600" spc="-1" strike="noStrike">
                <a:solidFill>
                  <a:srgbClr val="000000"/>
                </a:solidFill>
                <a:latin typeface="Eras Bold ITC"/>
                <a:ea typeface="MS PGothic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1E41-437D-4D05-8C2A-171EDA79021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9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4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ítulo 1"/>
          <p:cNvSpPr/>
          <p:nvPr/>
        </p:nvSpPr>
        <p:spPr>
          <a:xfrm>
            <a:off x="1143000" y="6858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ras Bold ITC"/>
              </a:rPr>
              <a:t>UNA MARCA YA NO ES MAS LO QUE </a:t>
            </a:r>
            <a:r>
              <a:rPr b="0" lang="en-US" sz="3600" spc="-1" strike="noStrike">
                <a:solidFill>
                  <a:srgbClr val="ff0000"/>
                </a:solidFill>
                <a:latin typeface="Eras Bold ITC"/>
              </a:rPr>
              <a:t>LE DECIMOS A LA GENTE…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ítulo 1"/>
          <p:cNvSpPr/>
          <p:nvPr/>
        </p:nvSpPr>
        <p:spPr>
          <a:xfrm>
            <a:off x="1143000" y="205740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ras Bold ITC"/>
                <a:ea typeface="MS PGothic"/>
              </a:rPr>
              <a:t>ES LO QUE </a:t>
            </a:r>
            <a:r>
              <a:rPr b="0" lang="en-US" sz="3600" spc="-1" strike="noStrike">
                <a:solidFill>
                  <a:srgbClr val="ff0000"/>
                </a:solidFill>
                <a:latin typeface="Eras Bold ITC"/>
                <a:ea typeface="MS PGothic"/>
              </a:rPr>
              <a:t>LA GENTE LE DICE A OTRA GENTE</a:t>
            </a:r>
            <a:r>
              <a:rPr b="0" lang="en-US" sz="3600" spc="-1" strike="noStrike">
                <a:solidFill>
                  <a:srgbClr val="000000"/>
                </a:solidFill>
                <a:latin typeface="Eras Bold ITC"/>
                <a:ea typeface="MS PGothic"/>
              </a:rPr>
              <a:t> QUE ES.</a:t>
            </a:r>
            <a:br>
              <a:rPr sz="3600"/>
            </a:b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Eras Bold ITC"/>
                <a:ea typeface="MS PGothic"/>
              </a:rPr>
              <a:t>SCOTT D. COOK. P&amp;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B372-37A1-408E-B0B8-A31368C6E14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9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4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ítulo 1"/>
          <p:cNvSpPr/>
          <p:nvPr/>
        </p:nvSpPr>
        <p:spPr>
          <a:xfrm>
            <a:off x="10666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HAY QUE OLVIDARSE  DEL CONTROL SOBRE LA MARC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ítulo 1"/>
          <p:cNvSpPr/>
          <p:nvPr/>
        </p:nvSpPr>
        <p:spPr>
          <a:xfrm>
            <a:off x="1066680" y="320040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ras Bold ITC"/>
                <a:ea typeface="MS PGothic"/>
              </a:rPr>
              <a:t>PERO NO DE LA AUTORIDA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DDF4-352B-4E9D-87C1-1FC02733FEA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4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ítulo 1"/>
          <p:cNvSpPr/>
          <p:nvPr/>
        </p:nvSpPr>
        <p:spPr>
          <a:xfrm>
            <a:off x="1066680" y="549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Eras Bold ITC"/>
              </a:rPr>
              <a:t>CLUETRAIN + GROUNDSWELL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ítulo 1"/>
          <p:cNvSpPr/>
          <p:nvPr/>
        </p:nvSpPr>
        <p:spPr>
          <a:xfrm>
            <a:off x="76320" y="2565360"/>
            <a:ext cx="87627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ff0000"/>
                </a:solidFill>
                <a:latin typeface="Eras Bold ITC"/>
                <a:ea typeface="MS PGothic"/>
              </a:rPr>
              <a:t>EL CLIENTE SOCI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86C2-9766-4FCE-8B1B-55F1A1E0790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4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ítulo 1"/>
          <p:cNvSpPr/>
          <p:nvPr/>
        </p:nvSpPr>
        <p:spPr>
          <a:xfrm>
            <a:off x="762120" y="692280"/>
            <a:ext cx="80769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Eras Bold ITC"/>
              </a:rPr>
              <a:t>LA APARICIÓN DEL </a:t>
            </a:r>
            <a:r>
              <a:rPr b="0" lang="es-ES" sz="3600" spc="-1" strike="noStrike">
                <a:solidFill>
                  <a:srgbClr val="ff0000"/>
                </a:solidFill>
                <a:latin typeface="Eras Bold ITC"/>
              </a:rPr>
              <a:t>CLIENTE SOCIAL </a:t>
            </a:r>
            <a:r>
              <a:rPr b="0" lang="es-ES" sz="3600" spc="-1" strike="noStrike">
                <a:solidFill>
                  <a:srgbClr val="000000"/>
                </a:solidFill>
                <a:latin typeface="Eras Bold ITC"/>
              </a:rPr>
              <a:t>REQUIERE MUCHO MÁS QUE </a:t>
            </a:r>
            <a:r>
              <a:rPr b="0" lang="es-ES" sz="3600" spc="-1" strike="noStrike">
                <a:solidFill>
                  <a:srgbClr val="ff0000"/>
                </a:solidFill>
                <a:latin typeface="Eras Bold ITC"/>
              </a:rPr>
              <a:t>ATENCIÓN</a:t>
            </a:r>
            <a:r>
              <a:rPr b="0" lang="es-ES" sz="3600" spc="-1" strike="noStrike">
                <a:solidFill>
                  <a:srgbClr val="000000"/>
                </a:solidFill>
                <a:latin typeface="Eras Bold IT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ítulo 1"/>
          <p:cNvSpPr/>
          <p:nvPr/>
        </p:nvSpPr>
        <p:spPr>
          <a:xfrm>
            <a:off x="762120" y="2565360"/>
            <a:ext cx="80769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Eras Bold ITC"/>
                <a:ea typeface="MS PGothic"/>
              </a:rPr>
              <a:t>REQUIERE UNA </a:t>
            </a:r>
            <a:r>
              <a:rPr b="0" lang="es-ES" sz="3600" spc="-1" strike="noStrike">
                <a:solidFill>
                  <a:srgbClr val="ff0000"/>
                </a:solidFill>
                <a:latin typeface="Eras Bold ITC"/>
                <a:ea typeface="MS PGothic"/>
              </a:rPr>
              <a:t>COMPRENSIÓN</a:t>
            </a:r>
            <a:r>
              <a:rPr b="0" lang="es-ES" sz="3600" spc="-1" strike="noStrike">
                <a:solidFill>
                  <a:srgbClr val="000000"/>
                </a:solidFill>
                <a:latin typeface="Eras Bold ITC"/>
                <a:ea typeface="MS PGothic"/>
              </a:rPr>
              <a:t> DE LO QUE LOS </a:t>
            </a:r>
            <a:r>
              <a:rPr b="0" lang="es-ES" sz="3600" spc="-1" strike="noStrike">
                <a:solidFill>
                  <a:srgbClr val="ff0000"/>
                </a:solidFill>
                <a:latin typeface="Eras Bold ITC"/>
                <a:ea typeface="MS PGothic"/>
              </a:rPr>
              <a:t>MOTIVA A HACER CLIC</a:t>
            </a:r>
            <a:r>
              <a:rPr b="0" lang="es-ES" sz="3600" spc="-1" strike="noStrike">
                <a:solidFill>
                  <a:srgbClr val="000000"/>
                </a:solidFill>
                <a:latin typeface="Eras Bold ITC"/>
                <a:ea typeface="MS PGothic"/>
              </a:rPr>
              <a:t>, 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Eras Bold ITC"/>
                <a:ea typeface="MS PGothic"/>
              </a:rPr>
              <a:t>ACTUAR Y COMPART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DDFF-E0F5-4478-948A-FEC4661C0A5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4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ítulo 1"/>
          <p:cNvSpPr/>
          <p:nvPr/>
        </p:nvSpPr>
        <p:spPr>
          <a:xfrm>
            <a:off x="-76320" y="604800"/>
            <a:ext cx="891540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COMO ES ESTE PERSONAJ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WorldClassID-Social-Networking-Software-Service-in-the-SocialSphere-Presentation2.jpg"/>
          <p:cNvPicPr/>
          <p:nvPr/>
        </p:nvPicPr>
        <p:blipFill>
          <a:blip r:embed="rId3"/>
          <a:stretch/>
        </p:blipFill>
        <p:spPr>
          <a:xfrm>
            <a:off x="3132000" y="1492200"/>
            <a:ext cx="570708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B1DF-0A59-4B68-95FF-AD6293114C6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9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4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1 Título"/>
          <p:cNvSpPr/>
          <p:nvPr/>
        </p:nvSpPr>
        <p:spPr>
          <a:xfrm>
            <a:off x="121932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HIPERCONECTADO -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1 Título"/>
          <p:cNvSpPr/>
          <p:nvPr/>
        </p:nvSpPr>
        <p:spPr>
          <a:xfrm>
            <a:off x="1219320" y="914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Eras Bold ITC"/>
                <a:ea typeface="MS PGothic"/>
              </a:rPr>
              <a:t>CREATIVO -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Eras Bold ITC"/>
                <a:ea typeface="MS P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1 Título"/>
          <p:cNvSpPr/>
          <p:nvPr/>
        </p:nvSpPr>
        <p:spPr>
          <a:xfrm>
            <a:off x="1219320" y="25002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Eras Bold ITC"/>
                <a:ea typeface="MS PGothic"/>
              </a:rPr>
              <a:t>COLABORATIVO -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Eras Bold ITC"/>
                <a:ea typeface="MS P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1 Título"/>
          <p:cNvSpPr/>
          <p:nvPr/>
        </p:nvSpPr>
        <p:spPr>
          <a:xfrm>
            <a:off x="121932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Eras Bold ITC"/>
                <a:ea typeface="MS PGothic"/>
              </a:rPr>
              <a:t>HIPERCRITICO -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Eras Bold ITC"/>
                <a:ea typeface="MS P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1 Título"/>
          <p:cNvSpPr/>
          <p:nvPr/>
        </p:nvSpPr>
        <p:spPr>
          <a:xfrm>
            <a:off x="1219320" y="19810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Eras Bold ITC"/>
                <a:ea typeface="MS PGothic"/>
              </a:rPr>
              <a:t>POCO PACIENTE -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Eras Bold ITC"/>
                <a:ea typeface="MS P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1 Título"/>
          <p:cNvSpPr/>
          <p:nvPr/>
        </p:nvSpPr>
        <p:spPr>
          <a:xfrm>
            <a:off x="1219320" y="30337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Eras Bold ITC"/>
                <a:ea typeface="MS PGothic"/>
              </a:rPr>
              <a:t>INFLUENCIADO POR AMIGOS Y PARES -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Eras Bold ITC"/>
                <a:ea typeface="MS P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 Título"/>
          <p:cNvSpPr/>
          <p:nvPr/>
        </p:nvSpPr>
        <p:spPr>
          <a:xfrm>
            <a:off x="1219320" y="3581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Eras Bold ITC"/>
                <a:ea typeface="MS PGothic"/>
              </a:rPr>
              <a:t>PRODUCE INFORMACION -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Eras Bold ITC"/>
                <a:ea typeface="MS P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 Título"/>
          <p:cNvSpPr/>
          <p:nvPr/>
        </p:nvSpPr>
        <p:spPr>
          <a:xfrm>
            <a:off x="1219320" y="4114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Eras Bold ITC"/>
                <a:ea typeface="MS PGothic"/>
              </a:rPr>
              <a:t>INSTALA AGENDA -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Eras Bold ITC"/>
                <a:ea typeface="MS P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1 Título"/>
          <p:cNvSpPr/>
          <p:nvPr/>
        </p:nvSpPr>
        <p:spPr>
          <a:xfrm>
            <a:off x="1219320" y="4876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Eras Bold ITC"/>
                <a:ea typeface="MS PGothic"/>
              </a:rPr>
              <a:t>VALORA FUNDAMENTALMENTE CONFIABILIDAD Y TRANSPARENCIA 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Eras Bold ITC"/>
                <a:ea typeface="MS PGothic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Eras Bold ITC"/>
                <a:ea typeface="MS P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E192-2E98-4C97-B8AA-B2C488EE20F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3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agen 1" descr="Captura de pantalla 2012-11-11 a la(s) 18.19.40.png"/>
          <p:cNvPicPr/>
          <p:nvPr/>
        </p:nvPicPr>
        <p:blipFill>
          <a:blip r:embed="rId3"/>
          <a:stretch/>
        </p:blipFill>
        <p:spPr>
          <a:xfrm>
            <a:off x="4267080" y="165240"/>
            <a:ext cx="480060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8568-2DD2-4DC9-A729-DD78176FF11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9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4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1 Título"/>
          <p:cNvSpPr/>
          <p:nvPr/>
        </p:nvSpPr>
        <p:spPr>
          <a:xfrm>
            <a:off x="1066680" y="9144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GRAN CONSUMIDOR, PRODUCTOR Y CURADOR DE INFORM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5512-BA6F-47CB-A60F-760784E9F56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9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4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1 Título"/>
          <p:cNvSpPr/>
          <p:nvPr/>
        </p:nvSpPr>
        <p:spPr>
          <a:xfrm>
            <a:off x="1066680" y="9144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SUS EXPECT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1 Título"/>
          <p:cNvSpPr/>
          <p:nvPr/>
        </p:nvSpPr>
        <p:spPr>
          <a:xfrm>
            <a:off x="533520" y="1905120"/>
            <a:ext cx="83055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Bold ITC"/>
                <a:ea typeface="MS PGothic"/>
              </a:rPr>
              <a:t>PRESENCIA CONSISTENTE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Bold ITC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1 Título"/>
          <p:cNvSpPr/>
          <p:nvPr/>
        </p:nvSpPr>
        <p:spPr>
          <a:xfrm>
            <a:off x="533520" y="2362320"/>
            <a:ext cx="83055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Bold ITC"/>
                <a:ea typeface="MS PGothic"/>
              </a:rPr>
              <a:t>COMUNICACION IDA Y VUELTA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Bold ITC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1 Título"/>
          <p:cNvSpPr/>
          <p:nvPr/>
        </p:nvSpPr>
        <p:spPr>
          <a:xfrm>
            <a:off x="533520" y="2851200"/>
            <a:ext cx="83055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Bold ITC"/>
                <a:ea typeface="MS PGothic"/>
              </a:rPr>
              <a:t>PERSONALIZACION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Bold ITC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1 Título"/>
          <p:cNvSpPr/>
          <p:nvPr/>
        </p:nvSpPr>
        <p:spPr>
          <a:xfrm>
            <a:off x="533520" y="3352680"/>
            <a:ext cx="83055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Bold ITC"/>
                <a:ea typeface="MS PGothic"/>
              </a:rPr>
              <a:t>COLABORACION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Bold ITC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1 Título"/>
          <p:cNvSpPr/>
          <p:nvPr/>
        </p:nvSpPr>
        <p:spPr>
          <a:xfrm>
            <a:off x="533520" y="3841920"/>
            <a:ext cx="83055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Bold ITC"/>
                <a:ea typeface="MS PGothic"/>
              </a:rPr>
              <a:t>TRANSPARENCIA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Bold ITC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1 Título"/>
          <p:cNvSpPr/>
          <p:nvPr/>
        </p:nvSpPr>
        <p:spPr>
          <a:xfrm>
            <a:off x="533520" y="4343400"/>
            <a:ext cx="83055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Bold ITC"/>
                <a:ea typeface="MS PGothic"/>
              </a:rPr>
              <a:t>PRONTA RESOLUCION DE PROBLEMAS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Bold ITC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1 Título"/>
          <p:cNvSpPr/>
          <p:nvPr/>
        </p:nvSpPr>
        <p:spPr>
          <a:xfrm>
            <a:off x="533520" y="4800600"/>
            <a:ext cx="83055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Bold ITC"/>
                <a:ea typeface="MS PGothic"/>
              </a:rPr>
              <a:t>RESPONSABILIDAD/ HONESTIDAD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Bold ITC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1 Título"/>
          <p:cNvSpPr/>
          <p:nvPr/>
        </p:nvSpPr>
        <p:spPr>
          <a:xfrm>
            <a:off x="533520" y="5257800"/>
            <a:ext cx="83055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Bold ITC"/>
                <a:ea typeface="MS PGothic"/>
              </a:rPr>
              <a:t>RELEVANCIA EN LA PROPUESTA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Bold ITC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C7F7-7E1E-404D-95D9-1CE1E046A07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14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1 Título"/>
          <p:cNvSpPr/>
          <p:nvPr/>
        </p:nvSpPr>
        <p:spPr>
          <a:xfrm>
            <a:off x="685800" y="836640"/>
            <a:ext cx="8153280" cy="32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Eras Bold ITC"/>
              </a:rPr>
              <a:t>ENTONCES, QUÉ HACEMOS??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6C81-D684-458D-A726-E316D27C5D4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6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2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C:\Users\qazwsxedcrfv\Desktop\PRESENTACION SUPERVIELLE\la foto (1).JPG"/>
          <p:cNvPicPr/>
          <p:nvPr/>
        </p:nvPicPr>
        <p:blipFill>
          <a:blip r:embed="rId3"/>
          <a:stretch/>
        </p:blipFill>
        <p:spPr>
          <a:xfrm>
            <a:off x="500040" y="333360"/>
            <a:ext cx="81439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F7C5-F04D-49C1-B9EC-6E76A479400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9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14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ítulo 1"/>
          <p:cNvSpPr/>
          <p:nvPr/>
        </p:nvSpPr>
        <p:spPr>
          <a:xfrm>
            <a:off x="10666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Eras Bold ITC"/>
              </a:rPr>
              <a:t>LOS PROBLEMAS DEL SIGLO XXI,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Eras Bold ITC"/>
              </a:rPr>
              <a:t>SEGUIRAN ESQUIVANDO A LAS SOLUCIONES DEL SIGLO XX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9099-DAD2-420F-89B5-F3496CAB866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9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14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ítulo 1"/>
          <p:cNvSpPr/>
          <p:nvPr/>
        </p:nvSpPr>
        <p:spPr>
          <a:xfrm>
            <a:off x="1066680" y="28195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Eras Bold ITC"/>
              </a:rPr>
              <a:t>cfsordo@gmail.c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ítulo 1"/>
          <p:cNvSpPr/>
          <p:nvPr/>
        </p:nvSpPr>
        <p:spPr>
          <a:xfrm>
            <a:off x="1066680" y="9144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Eras Bold ITC"/>
                <a:ea typeface="MS PGothic"/>
              </a:rPr>
              <a:t>El que quiera contactarme, hacer una consulta o comentario, me escribe 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4C37-F648-4917-914E-9AA3D6830D5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9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14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ítulo 1"/>
          <p:cNvSpPr/>
          <p:nvPr/>
        </p:nvSpPr>
        <p:spPr>
          <a:xfrm>
            <a:off x="10666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Eras Bold ITC"/>
                <a:ea typeface="MS PGothic"/>
              </a:rPr>
              <a:t>MUCHAS GR@CIAS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57CA-725E-4DCA-B73D-CF8F0174B73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6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84360" y="191592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12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FB3D-E946-4747-9268-0ECAAC8D2DA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2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Imagen 2" descr="Captura de pantalla 2012-11-11 a la(s) 18.19.58.png"/>
          <p:cNvPicPr/>
          <p:nvPr/>
        </p:nvPicPr>
        <p:blipFill>
          <a:blip r:embed="rId3"/>
          <a:stretch/>
        </p:blipFill>
        <p:spPr>
          <a:xfrm>
            <a:off x="4267080" y="160200"/>
            <a:ext cx="4800600" cy="56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16E3-002D-40D3-AC67-93B48F3DF60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4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152280" y="8334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Eras Bold ITC"/>
              </a:rPr>
              <a:t>Para algunos </a:t>
            </a:r>
            <a:r>
              <a:rPr b="0" lang="es-AR" sz="3200" spc="-1" strike="noStrike">
                <a:solidFill>
                  <a:srgbClr val="ff0000"/>
                </a:solidFill>
                <a:latin typeface="Eras Bold ITC"/>
              </a:rPr>
              <a:t>Social Media </a:t>
            </a:r>
            <a:r>
              <a:rPr b="0" lang="es-AR" sz="3200" spc="-1" strike="noStrike">
                <a:solidFill>
                  <a:srgbClr val="000000"/>
                </a:solidFill>
                <a:latin typeface="Eras Bold ITC"/>
              </a:rPr>
              <a:t>todavía es como el sexo para los adolescent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152280" y="24955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Eras Bold ITC"/>
                <a:ea typeface="MS PGothic"/>
              </a:rPr>
              <a:t>Hablan mucho de </a:t>
            </a:r>
            <a:r>
              <a:rPr b="0" lang="es-AR" sz="3600" spc="-1" strike="noStrike">
                <a:solidFill>
                  <a:srgbClr val="ff0000"/>
                </a:solidFill>
                <a:latin typeface="Eras Bold ITC"/>
                <a:ea typeface="MS PGothic"/>
              </a:rPr>
              <a:t>eso</a:t>
            </a:r>
            <a:r>
              <a:rPr b="0" lang="es-AR" sz="3600" spc="-1" strike="noStrike">
                <a:solidFill>
                  <a:srgbClr val="000000"/>
                </a:solidFill>
                <a:latin typeface="Eras Bold ITC"/>
                <a:ea typeface="MS PGothic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152280" y="327816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Eras Bold ITC"/>
                <a:ea typeface="MS PGothic"/>
              </a:rPr>
              <a:t>Quieren </a:t>
            </a:r>
            <a:r>
              <a:rPr b="0" lang="es-AR" sz="3600" spc="-1" strike="noStrike">
                <a:solidFill>
                  <a:srgbClr val="ff0000"/>
                </a:solidFill>
                <a:latin typeface="Eras Bold ITC"/>
                <a:ea typeface="MS PGothic"/>
              </a:rPr>
              <a:t>hacerlo</a:t>
            </a:r>
            <a:r>
              <a:rPr b="0" lang="es-AR" sz="3600" spc="-1" strike="noStrike">
                <a:solidFill>
                  <a:srgbClr val="000000"/>
                </a:solidFill>
                <a:latin typeface="Eras Bold ITC"/>
                <a:ea typeface="MS PGothic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152280" y="410364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Eras Bold ITC"/>
                <a:ea typeface="MS PGothic"/>
              </a:rPr>
              <a:t>Pero </a:t>
            </a:r>
            <a:r>
              <a:rPr b="0" lang="es-AR" sz="4000" spc="-1" strike="noStrike">
                <a:solidFill>
                  <a:srgbClr val="ff0000"/>
                </a:solidFill>
                <a:latin typeface="Eras Bold ITC"/>
                <a:ea typeface="MS PGothic"/>
              </a:rPr>
              <a:t>no saben </a:t>
            </a:r>
            <a:r>
              <a:rPr b="0" lang="es-AR" sz="4000" spc="-1" strike="noStrike">
                <a:solidFill>
                  <a:srgbClr val="000000"/>
                </a:solidFill>
                <a:latin typeface="Eras Bold ITC"/>
                <a:ea typeface="MS PGothic"/>
              </a:rPr>
              <a:t>exactamente como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4172-0FD8-41CE-BCBB-64881FCB59B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1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3 Imagen" descr="like me 300x247 Social Media Tools &amp; Tech   15 Tips to Not Lose Your Mind! 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19480" y="152280"/>
            <a:ext cx="67482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3675-3605-447E-B21E-9C5D87C831C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1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C:\Users\qazwsxedcrfv\Desktop\young-people5250.jpg"/>
          <p:cNvPicPr/>
          <p:nvPr/>
        </p:nvPicPr>
        <p:blipFill>
          <a:blip r:embed="rId3"/>
          <a:stretch/>
        </p:blipFill>
        <p:spPr>
          <a:xfrm>
            <a:off x="4203720" y="789120"/>
            <a:ext cx="4940280" cy="5078160"/>
          </a:xfrm>
          <a:prstGeom prst="rect">
            <a:avLst/>
          </a:prstGeom>
          <a:ln w="0">
            <a:noFill/>
          </a:ln>
        </p:spPr>
      </p:pic>
      <p:sp>
        <p:nvSpPr>
          <p:cNvPr id="79" name="Título 1"/>
          <p:cNvSpPr/>
          <p:nvPr/>
        </p:nvSpPr>
        <p:spPr>
          <a:xfrm>
            <a:off x="152280" y="380880"/>
            <a:ext cx="7772400" cy="29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Eras Bold ITC"/>
              </a:rPr>
              <a:t>LA WEB 2.0 NO SE TRATA DE HERRAMIENTAS </a:t>
            </a:r>
            <a:br>
              <a:rPr sz="4200"/>
            </a:br>
            <a:r>
              <a:rPr b="0" lang="es-ES" sz="4200" spc="-1" strike="noStrike">
                <a:solidFill>
                  <a:srgbClr val="000000"/>
                </a:solidFill>
                <a:latin typeface="Eras Bold ITC"/>
              </a:rPr>
              <a:t>SINO DE PERSONAS</a:t>
            </a: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3A6D-B1D1-467E-9DDD-DA1CDED13F3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1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ítulo 1"/>
          <p:cNvSpPr/>
          <p:nvPr/>
        </p:nvSpPr>
        <p:spPr>
          <a:xfrm>
            <a:off x="106668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Eras Bold ITC"/>
              </a:rPr>
              <a:t>HOJA DE RUTA</a:t>
            </a:r>
            <a:br>
              <a:rPr sz="5400"/>
            </a:br>
            <a:br>
              <a:rPr sz="5400"/>
            </a:br>
            <a:br>
              <a:rPr sz="2400"/>
            </a:br>
            <a:br>
              <a:rPr sz="2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ítulo 1"/>
          <p:cNvSpPr/>
          <p:nvPr/>
        </p:nvSpPr>
        <p:spPr>
          <a:xfrm>
            <a:off x="10666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Eras Bold ITC"/>
                <a:ea typeface="MS PGothic"/>
              </a:rPr>
              <a:t>COMO LLEGAMOS HASTA ACÁ?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Eras Bold ITC"/>
                <a:ea typeface="MS PGothic"/>
              </a:rPr>
              <a:t>Escenario Tecnológico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Eras Bold ITC"/>
                <a:ea typeface="MS PGothic"/>
              </a:rPr>
              <a:t>Escenario Sociocultural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Eras Bold ITC"/>
                <a:ea typeface="MS PGothic"/>
              </a:rPr>
              <a:t>EL CLIENTE SOCIAL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Eras Bold ITC"/>
                <a:ea typeface="MS PGothic"/>
              </a:rPr>
              <a:t>Como es este personaje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Eras Bold ITC"/>
                <a:ea typeface="MS PGothic"/>
              </a:rPr>
              <a:t>PREPARÁNDONOS PAR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Eras Bold ITC"/>
                <a:ea typeface="MS PGothic"/>
              </a:rPr>
              <a:t>EL CLIENTE SOCIAL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3FFE-F004-4E10-AED0-70FEF4C3579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4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ítulo 1"/>
          <p:cNvSpPr/>
          <p:nvPr/>
        </p:nvSpPr>
        <p:spPr>
          <a:xfrm>
            <a:off x="1066680" y="511200"/>
            <a:ext cx="7772400" cy="36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Eras Bold ITC"/>
              </a:rPr>
              <a:t>COMO LLEGAMOS HASTA ACÁ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7:47:30Z</dcterms:created>
  <dc:creator>ncampregher</dc:creator>
  <dc:description/>
  <dc:language>en-US</dc:language>
  <cp:lastModifiedBy>qazwsxedcrfv</cp:lastModifiedBy>
  <dcterms:modified xsi:type="dcterms:W3CDTF">2013-08-28T22:59:32Z</dcterms:modified>
  <cp:revision>22</cp:revision>
  <dc:subject/>
  <dc:title>Diapositiva 1</dc:title>
</cp:coreProperties>
</file>